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E8D1-3BE7-4CD9-AD4D-4E3742F36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38E-F496-45C4-B176-CFA84D404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1766-6111-44C9-B3C9-EE612D5B4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56AB-79B8-44B8-A654-DD5194212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F06F-5069-427D-B8E6-67CAC3239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29AA-0C25-4C25-B5A6-726D06C98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4A25-22DB-4F5A-A3EC-ACD86302E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2911-9A23-4D96-8380-5E4E2F37D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95E8-0E8D-4C45-AC74-592A261A2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9172-8CDD-4606-BE03-7B77F4F9F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2057-A314-4975-8B67-A8EF52BD4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130-BD56-491A-89A9-2FC474D5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C3D-0F04-41FD-93A7-87C709B5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F80-D96B-413A-939B-BBAE2BC8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31B-4AF4-43BD-817D-3D514CE4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3B4-D0DB-434F-869D-976EA9CF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AD3-C5F1-44EC-B475-C9FE87C4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18F-F009-4362-ADBD-3279BD47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834-CDB4-4DAC-A695-F3F83E7B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808-B53C-4797-955A-C30C263F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566-654C-4E97-A91C-D420FB5E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110-951A-4285-8131-E54C999F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85F-38CB-43D4-8052-50BE6D1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A7C9-8AC4-49D1-96A4-CF41F5987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s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Mix</cp:lastModifiedBy>
  <dcterms:modified xsi:type="dcterms:W3CDTF">2012-09-20T12:42:37Z</dcterms:modified>
  <cp:revision>20</cp:revision>
  <dc:subject/>
  <dc:title>Co-operation or competition?</dc:title>
</cp:coreProperties>
</file>